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4C9-60F2-4FD1-AFD1-A408EE16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32A-E903-43C1-ADC9-450F1DDC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BD3-68BC-4DA9-977C-A7D1958F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633-2784-4608-BE9A-844AE7E8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0A15-2BA4-480D-A6AD-33E3BEB8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75CF-1F75-4327-8F25-71996E51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E02F-B23A-49C2-8899-1A43D28D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9CF2-2F19-4E99-ADEA-FA75BF61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679F-8C34-47C9-BE36-7174CDB2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95A0-EFE1-4A8E-90E3-CEC6B458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40EE-ACE7-4764-B15A-4C6DF12D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FDF1-7160-4707-A9BB-9FA819D1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B51E-BE7B-4FD9-A1FD-6FB5B805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06F3-6AC5-4C31-A58B-6454C108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5D67-D473-4FC0-94F1-1510FA5D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8AB9-2CBB-4B01-9719-B0BF02DC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864F-86CC-4C3A-ADC9-3350DED6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D2A-19E2-46AB-BABC-5F66021B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5DDF-DDA6-4574-8F3B-6C69B73C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302B-19AB-40E2-A8FD-D2FE82CF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161B-867E-479F-8562-A4EE0276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CA9-15EB-43C5-98F0-F9E779F9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C47-8263-446A-B12E-52AAF571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3EB-1B2B-48A2-9A0C-93634CF3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D951-FDB7-4427-B5A9-60C4B0C054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F5B9-E41D-44D5-BB40-AADE1F81AA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4format.ru/" TargetMode="External"/><Relationship Id="rId2" Type="http://schemas.openxmlformats.org/officeDocument/2006/relationships/hyperlink" Target="http://moy-bereg.ru/" TargetMode="External"/><Relationship Id="rId3" Type="http://schemas.openxmlformats.org/officeDocument/2006/relationships/hyperlink" Target="http://borodina.mrezha.ru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7162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20000"/>
                </a:solidFill>
                <a:latin typeface="Times New Roman"/>
              </a:rPr>
              <a:t>Символика в романе Ф.И. Достоевского «Преступление и наказание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742840" y="3765240"/>
            <a:ext cx="5715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Arial"/>
              </a:rPr>
              <a:t>Выполнила: Машкалёва Анастас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Arial"/>
              </a:rPr>
              <a:t>342 группа</a:t>
            </a: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5486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00"/>
                </a:solidFill>
                <a:latin typeface="Times New Roman"/>
              </a:rPr>
              <a:t>2010 год, Сыктывк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0000"/>
                </a:solidFill>
                <a:latin typeface="Times New Roman"/>
              </a:rPr>
              <a:t>Как выразить невыразимое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Вопросы с которыми мы должны познакомиться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00"/>
                </a:solidFill>
                <a:latin typeface="Times New Roman"/>
              </a:rPr>
              <a:t>Что такое симво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00"/>
                </a:solidFill>
                <a:latin typeface="Times New Roman"/>
              </a:rPr>
              <a:t>Какие символы вы можете выделить в романе Ф. М. Достоевского </a:t>
            </a:r>
            <a:br>
              <a:rPr sz="3200"/>
            </a:br>
            <a:r>
              <a:rPr b="1" i="1" lang="en-US" sz="3200" spc="-1" strike="noStrike">
                <a:solidFill>
                  <a:srgbClr val="660000"/>
                </a:solidFill>
                <a:latin typeface="Times New Roman"/>
              </a:rPr>
              <a:t>« Преступление и наказание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00"/>
                </a:solidFill>
                <a:latin typeface="Times New Roman"/>
              </a:rPr>
              <a:t>Какую роль данные символы выполняют в роман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00"/>
                </a:solidFill>
                <a:latin typeface="Times New Roman"/>
              </a:rPr>
              <a:t>План проведения проект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1) Знакомство с понятием символ. Общая характеристика символа  в романе. ( 1 ча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2) Символика красного и желтого цвета в романе.(  1 ча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3) Символика чисел 4 и 7 в романе. ( 1 ча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4) Символика фамилий в романе. ( 1час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5) Выводы по теме. Работа по группам ( выбор символа и разъяснение его содержан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( 2 час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00"/>
                </a:solidFill>
                <a:latin typeface="Times New Roman"/>
              </a:rPr>
              <a:t>Данный проект рассчитан на 6  час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0000"/>
                </a:solidFill>
                <a:latin typeface="Times New Roman"/>
              </a:rPr>
              <a:t>Информационные ресурсы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http://www.a4format.r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http://moy-bereg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http://borodina.mrezha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07T05:20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